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F4F-15B6-4EBC-98AF-8828524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D95-5AE5-4FC4-AE15-DBA7E48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1E69-E8CA-4585-B223-CB61FA07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6E65-9429-4457-84BB-5614B82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B90FE-F53F-4A7F-AA0B-AA523A31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256F1-9E88-418B-9F40-34494E2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C2FC7-ABC0-41E7-9F02-7C3EF34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40AB-81A2-4E30-8E58-62288B8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237D9-8759-4EB3-B9BF-308A20CF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1625B-5A39-44D0-A1D2-11D40747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9FE9D-A436-4681-ACB5-1B1A6088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5C298-748E-4EA4-9974-4FC4C47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AF1-B222-47E4-9470-C0561EA7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A7DBF-D4EF-422D-AE6E-A983C02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C845D-9F34-4F13-963B-9AF75A64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E2C7B-5A39-4B8D-AA57-331E4943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673B3-A2DD-4D10-AE74-28A86D69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E57E2-38D4-4A65-8C07-F1C82AE4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05A5-5F36-43F1-9239-82F835E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C38A9-D0AD-4654-859E-554FF69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DCD0F-C201-42A0-B9CB-958214B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36926-FB3A-4DB9-BC23-3261815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5ED9E-AB9D-479B-BA9B-641A54FE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1D0-ECBB-4850-A849-A832EF4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E04B9-0191-4D60-A736-7D12C40F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99FD-3329-463C-A049-FF023E09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BC41B-BD84-4254-A0AA-646258E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65B86-0641-4354-8037-D4FDF49E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5F415-BD90-4419-88AA-12FF98D3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0BD8A-0DDC-4F13-B632-3D949107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4F70E-34DF-446E-B58C-B59BB0D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7FDB-23BE-42AD-874C-F3C81188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9DE1-3975-4490-BF25-5DF2F7F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0962E-0037-457E-8A4F-D31A895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660-288E-4A4E-BD17-1EB8016F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5E2D-5BAF-4601-A03E-DDBEAF1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DFB2-EC52-4461-9163-27E19275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5E7BF-8FA3-49E7-B691-7C5B7226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61104-24E9-4B0A-AFBD-8B73B656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3FEEC-E562-485E-B280-E08CE19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678D8-F1EF-446B-B44B-C1E1655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EF51-47F9-4C9B-9459-B01A90DA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5DB6-5804-4713-8553-4E40110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4F951-6852-4467-9778-561E2DB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4A22C-8C36-4B90-AFFE-0E5D13C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04C1-41EF-4B2C-A48F-87326417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FC02D-D168-4CB7-A5E0-354059A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C2862-5477-4AD8-BA6D-14C7E4A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A03B-C764-46D0-9BAA-8D781310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58BBD-2657-4531-8933-182E441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157E9-FF31-4501-8678-BCB6606E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65746-F039-4A45-9AFA-68FE696D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2FA30-5CC6-4EB8-9ED8-C58E205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FC3DA-5B61-4782-98B7-477B8E97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233AD-354A-419D-9952-D03DD8B5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18AB8-7A9C-4557-A745-0C307DE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2BB-82E1-41EA-917F-74DE0C5A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CD84A-A438-4325-89E4-BCB6CD4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B7E75-2ACF-446D-9EC1-A336EECB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B8C08-F2CE-4327-BF17-2CA09A6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95DCD-94DA-4522-BBD6-796AEC7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177E3-18DB-46BC-9042-B0364C5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0F18A-976D-4E99-93D0-E72B1EC8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5BB72-0779-4D15-B183-BCB800B5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F00C9A-0163-41F1-987F-1F942A28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BAD55B-4645-4B13-A2D4-6A33A23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B7D0FF-B2CC-46FE-8DAA-69E82594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8749-7061-4D53-AD06-3BD1735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AD75AD-BCBC-48FF-A33F-EA845165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4E5256-DD61-4F2F-9C00-C5058C8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F65E63-838E-45EF-AD3E-537F14B5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860C9B-9632-4D9E-89ED-ABA1BC9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1D1D91-C919-43F0-ACBD-1EF2444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01B1AF-16D5-43BD-85A4-75DD65D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57BE49-CEB5-4E9E-9669-C5C7B414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C7C115-6D8B-4CDF-BAC0-858C937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BC6315-13E2-42C9-A24B-13076437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E8AAB-E186-4836-864D-9D5DE28E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B44-1A26-46BA-93A2-6DE0BE0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665B4-CF8C-4495-A74D-A72456F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3C6B9-232C-4469-A674-39C9F64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4B36F-A263-4F1D-95EA-9741AE0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69EC8-8A82-42CB-9DB9-959F926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BD238-4476-49BA-A633-B7E9066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9BE87-1177-4CE8-AA79-6544A9B1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9C9DD-DD46-4D3B-9BE3-6BB7C52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950A2-8D81-4D08-A827-14EBDF7C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44A77-19B9-4139-9D78-6782A6F2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66303-6EBF-49BB-B574-5BF36A08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8CF0-CE2B-433C-85D7-D325F53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D11C5-4A6D-479F-88D3-80368A3F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6137A-DF2E-43FC-9D13-28C0CE26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68A63-0D24-468E-B35D-59D6FB5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87D1B-681B-4B94-9DC6-620A81B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A21D2-9BE3-49B9-B417-17FCE41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6EF11-6400-41D0-B442-44988B2C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0F02D-CB81-4C8E-97F2-35BF10E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9C5E5-85A9-48AF-BBDA-7CF15A6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33F021-4294-46E3-9128-BB1F747F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65248-113F-4E0A-8E5D-9201CD8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9B4-E9A0-4C6B-AFA2-47518B9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92326-3BE1-4669-8793-71EF51D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BC921-E1DB-45B3-9A9D-C11943B8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C45A6-EE69-4F77-8C46-75C92B54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ECF-33A9-4398-989E-ED9ECCC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F22A-0D61-4398-8EA6-B3A82E5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C95A-FDEA-4A86-B2D6-C949600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4405-8919-467B-8262-B6B9A22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D71-C68B-4129-A7EF-85CA9479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4541-8DCA-45DB-BC85-80E153D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ACC2-BD70-4E2A-92A4-23D656D0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6E35-DBAB-44F3-89F6-14D9009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0DF7-0FC3-49A0-ACBC-890924E0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411B-8D12-4394-8ABE-E041B65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F4C4-C1A4-4A58-B044-2422A12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5E8-6F30-43F4-9100-38BBF66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E933-96DD-4255-B9BA-EDDF9EC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D2BF-5ECF-4AC6-BCDF-D727C0F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A496-4ED7-419E-AA52-1969D2E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7839-30EC-49E0-8EF9-75D6EDD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8853-C951-4406-B967-72EFE95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D6B5-8B08-40F8-882C-191298E2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4207-7BD2-481A-808B-7AE459D6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DF3B-CF4F-47C0-BB99-F9446992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04FC-2725-46E3-80CF-C8BED8A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C6B1-BA62-48F1-8695-FA48DF8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090-CE08-4D21-8DD7-0D21DCC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EA0F7-4AD7-4281-9927-9BDE589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50A1-55F3-4F03-AA2B-FE0891B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83DA-A3CD-4112-88C6-6323DFBE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EEA8-C57B-4E13-A7EC-6CC3990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94C3-B61E-4AA5-8524-1AC59B9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D473-B5C2-4F3E-9B3D-09C2CA37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36B0-E42A-41C4-A9F6-7146A33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F1B8-83C0-4F26-A004-F1CF553A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D745-975B-485E-BFFD-E3B6B6A7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20F5-6E69-47BA-BA17-3E03B8E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B98-4095-409B-9665-D4F941A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6E59F-0FC6-4029-912E-9EBB2478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3F89-42F9-4991-99AE-C9F65BE8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1583-44BC-427D-A75E-0D28018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9246-6D82-4FDA-BF27-0596D85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13B2-93BD-4CBC-BCC0-327427D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3431-9CEB-486F-9760-8BF7F27C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5CBF-B568-4EFC-8450-31A4CC34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C411-3FFE-454E-83DC-7DB3814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B807-5BE6-4FEA-A680-C14952C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1D21-49A0-4AAF-B9C0-CB248D78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753-9742-4F56-ADA7-4FC46C4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F717-EC59-47D3-AB29-FA041A01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0F48-4C03-45C9-8A33-FF5CC3F7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910A-9E11-49D0-B6FA-B4F2C8BE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ECCA-617E-4566-982C-412E71B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BDFD-3BB9-4AB6-A491-C28F40A7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D206B-37A3-408F-B8D6-DD16624F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9C33E-04B6-48D0-AA6C-36F0D25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DB96-B906-4B14-80CA-2D38507C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9CD2-A87E-401A-AED5-E1CC4B2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9CD5-DFCF-4B75-A1DD-53F483F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452-0D24-4B87-B78D-4837109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6DF4-2BC8-4C55-8338-A67B34C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F175-8CF0-44F9-B5E7-067FAEF5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5A840-A6B8-452E-BFB2-6BDB738D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F17B-B6A5-4C0F-B101-AB01C698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4B9DE-19C2-4E5D-8CBC-FF188F5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AF8D7-8384-4759-A944-60BEF9D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6AC45-B73B-4121-96DC-1741805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7004-09B3-4E4C-BB95-4169D40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8D15-FDAF-484A-9418-D1C0C555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1862-4661-4FEA-B92C-93FCC66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B2D-5146-4D1C-ACF8-B24BBA3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E1F9-F0AD-4317-B32B-A6C6AE7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38B2-AFB0-4760-B94A-68FAAFB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A8CD-3FCF-40D7-BAFD-2582482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CA5A-1D97-4AF2-A7E8-BD69BE6F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3F5B-ADAD-4F29-8F59-EF3C097B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07593-DC56-4567-ADCF-3BCB9B7E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08CF-3D0D-427C-84B0-8E52EFE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2B78E-4D39-4F47-A4BF-C283288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FA14-2864-4F8D-A3E2-FC8DDF9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0E0E-2C2A-4FE2-9D5F-E133B34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DEA-6F35-4249-89D1-31A996D6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AE3B-DA34-4F1F-8632-BD4B8D3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F48A-1D5E-4058-A08F-FF3EF69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C1AAB-EEFA-45E2-9F97-A1F74F5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6F7B5-914D-4569-817C-D5DE28E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FB35-246C-4D0A-B0C1-3AD4434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2D0A-5D77-44A2-BE91-BA1703A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5157-8D6D-424B-8525-7474DC85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BB39-7455-47ED-8F26-7C0F6299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DD1A8-2C44-4542-B1B3-4697507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E16B1-9DEC-42A1-8EA7-F7B79EA1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4583-6146-4072-B4AC-C3111D19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6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653-EA0B-4BDB-8D7D-04BACB59D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7432-6527-40BD-91DA-8C3DF243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AA3F-CA3C-4240-A7C4-17EA14E1E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2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2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339E-8433-4FBE-B681-BA964AC6D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8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8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9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9D68-2F5C-421A-9C60-517FA6B2A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4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4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4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2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C066-E52D-43EB-8B9C-A03EE6308F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2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2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9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9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2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2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0E3C-B6A2-4B2B-8352-F791767BE7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CA4-BF58-4520-ABEC-BDEC4AC8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880A-AD30-41BE-B680-86E857B006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232-13E3-4C79-ABB7-4898DA8D96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E03-35B4-41FF-97A0-94F0083B2D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0975-C995-4223-A86F-46ACF5B6CD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7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8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2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61DC-5A4D-4175-9091-C174F2C3E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7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28BA-A307-4092-BAE4-3A4BCCCA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6952-7023-4BC9-859F-CDA00EF27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ffect of temperature when hot water is added to ice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Brandon &amp; E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Will different volumes of hot affect the temperature ice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As the volume of the hot water increases the mixed water’s temperature will be around 50 degrees Cels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b (continue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V: Volume of hot wa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V: Temperature of mixed wat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ants: Type of water, Temperature of hot water, Volume of ice water, and the Equip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8" name=""/>
          <p:cNvSpPr/>
          <p:nvPr/>
        </p:nvSpPr>
        <p:spPr>
          <a:xfrm>
            <a:off x="4479840" y="491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V Lev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152280" y="1905120"/>
          <a:ext cx="8839440" cy="297180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  <a:gridCol w="1263600"/>
                <a:gridCol w="1260720"/>
                <a:gridCol w="1263600"/>
                <a:gridCol w="1262160"/>
                <a:gridCol w="1263600"/>
              </a:tblGrid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i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asure 50 mL of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ur into beak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t water until 90 degrees Celsi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ur hot water into 50 mL of ice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asure the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 10 mL of 90 degree water each time and stop after 100 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457200" y="1600200"/>
          <a:ext cx="8229600" cy="479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 (m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xed Water 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the data there was an immediate drop from the 90 degree water when we mixed it with the ice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more hot water was added to the ice water the mixed water temperature started to 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100mL of water our max temperature of mixed water was 58.3 degrees Celsius and the minimum temperature was 44.7 degrees Celsi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8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8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ypothesis we created was correct to ou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ypothesis stated that the mixed water would heat up as more hot water was added but it would never reach the hot waters temperature of 90 degree Cels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pre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happened because the hot water had a higher temperature so it made the ice water raise in tempera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26:43Z</dcterms:created>
  <dc:creator>default</dc:creator>
  <dc:description/>
  <dc:language>en-US</dc:language>
  <cp:lastModifiedBy>default</cp:lastModifiedBy>
  <dcterms:modified xsi:type="dcterms:W3CDTF">2008-01-04T16:56:44Z</dcterms:modified>
  <cp:revision>11</cp:revision>
  <dc:subject/>
  <dc:title>The effect of temperature when hot water is added to ice water</dc:title>
</cp:coreProperties>
</file>